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1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2.gif" ContentType="image/gif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596-873E-444D-A1E1-DA67F8ED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6B8-F29A-4C56-A6B6-E5EE2372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577-7628-4C34-B287-95AC9D4E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B79-C5CF-48C5-80AC-CC3C77FC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5EC-ADFE-4831-B468-BA66BF43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8BC-B224-449E-83EA-D901C530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E61-ADAC-41B4-903E-DAEE3F87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B5A-41D1-4C7E-8EF7-C15E8247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0CC-3036-46FF-9023-24C9DCAB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D49-68EB-4F2C-BC22-E9D2BA3D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DDD-AFA8-4038-B22D-81B8D21D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E51-F734-4B5C-BBF0-B204F41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67E4-718C-4B2A-AA48-7945AAA54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093080" y="4508640"/>
            <a:ext cx="1628640" cy="2114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28640" cy="2114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1628640" cy="211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98764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266400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2951280" cy="2950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580000" y="3357720"/>
            <a:ext cx="2448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1:56:28Z</dcterms:created>
  <dc:creator>User</dc:creator>
  <dc:description/>
  <dc:language>en-US</dc:language>
  <cp:lastModifiedBy>User</cp:lastModifiedBy>
  <dcterms:modified xsi:type="dcterms:W3CDTF">2010-12-13T12:04:20Z</dcterms:modified>
  <cp:revision>2</cp:revision>
  <dc:subject/>
  <dc:title>Слайд 1</dc:title>
</cp:coreProperties>
</file>